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5AA4-4902-4ED9-99BA-57F0FF755D48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B8D-FFC7-4C1C-B82D-21DEACC53A96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4B2-69FA-4BEC-9629-E04FC57BF36D}" type="slidenum">
              <a:rPr b="0" lang="ru-RU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B2A-E0C4-4C7B-AA3A-9F194B04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5C7-A300-4B90-BE16-0622107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53D-2F4D-4A9F-9CED-F35C7DC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40E-C66B-4B83-9FC0-619A7C5F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970-64D3-4B1E-BA56-5804957E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932-89C1-4B5B-AED4-4A1AAE81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D40-74C2-4938-884B-53DAF11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AE2-92E4-4376-9A50-AF0E3A98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BA2-B1BE-4285-8744-B28F46C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5C0-6331-4C41-988F-FB829D4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185-CFF2-4002-9DE5-9FCD7B2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AA5-A62C-4017-B1F5-DF3E656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1E2A-E6AC-4AC5-97D5-E4824D440BB6}" type="slidenum">
              <a:rPr b="0" lang="ru-R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стров Преображения</a:t>
            </a:r>
            <a:endParaRPr b="0" lang="en-US" sz="3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300-летию Преображенской церкви на острове К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Архипова Наталья Анатольевна, зам. начальника  отдела «Детский музейный цен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общение темы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24000" y="1322280"/>
            <a:ext cx="51847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Работа с творческими заданиями 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Путешествие в прошлое» (работа в группах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Дополни текст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 легенде, меня построил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з …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….главки, покрытые ….    …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построена в честь праздника …….   …….., который отмечается   …. августа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не уже почти …  лет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Я красива со всех сторон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 меня нет главного ….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оворят, что мастер …..  , любуясь мною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азал: «Не было, ….   и …….  такой!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месте с Покровской церковью 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…………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. мы образуе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единый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дания: назови  «формулу Витрувия», построить живую картинау «Преображенская церковь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глашаем к сотрудничеству!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48360" y="2975040"/>
            <a:ext cx="382572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узей-заповедник «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етский музейный центр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. Петрозаводск, ул. Федосовой, 15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уратор Летней музейно-этнографической школы на о.Кижи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пова Наталья Анатольевна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л.: (8142) 79-98-75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e-mail: arhipova@kizhi.karelia.ru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127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72314"/>
                </a:solidFill>
                <a:latin typeface="Corbel"/>
              </a:rPr>
              <a:t>До встречи на острове Кижи!</a:t>
            </a:r>
            <a:endParaRPr b="0" lang="en-US" sz="3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4883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Цель занятия:</a:t>
            </a: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35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8920" y="1267920"/>
            <a:ext cx="5545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ворческое развитие детей на основе использования  образовательного потенциала музея-заповедника «Киж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:\Фадеева М. В\Для презентаций\Рама 1-2\IMG_6721.JPG"/>
          <p:cNvPicPr/>
          <p:nvPr/>
        </p:nvPicPr>
        <p:blipFill>
          <a:blip r:embed="rId1"/>
          <a:stretch/>
        </p:blipFill>
        <p:spPr>
          <a:xfrm>
            <a:off x="5867280" y="1413000"/>
            <a:ext cx="3097440" cy="52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K:\Фадеева М. В\Для презентаций\06_виды острова 03.06.12\6H8O8389.JPG"/>
          <p:cNvPicPr/>
          <p:nvPr/>
        </p:nvPicPr>
        <p:blipFill>
          <a:blip r:embed="rId2"/>
          <a:stretch/>
        </p:blipFill>
        <p:spPr>
          <a:xfrm>
            <a:off x="395280" y="2637000"/>
            <a:ext cx="5256360" cy="400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5" name="Picture 2" descr="K:\Фадеева М. В\Для презентаций\06_виды острова 03.06.12\6H8O8385.JPG"/>
          <p:cNvPicPr/>
          <p:nvPr/>
        </p:nvPicPr>
        <p:blipFill>
          <a:blip r:embed="rId1"/>
          <a:stretch/>
        </p:blipFill>
        <p:spPr>
          <a:xfrm>
            <a:off x="5651640" y="1413000"/>
            <a:ext cx="3313080" cy="533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132228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ать представление о музее-заповеднике «Кижи» и о его коллекция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знакомить детей с всемирно известными  памятниками деревянного зодчества музея-заповедника «Кижи»,  с уникальным  Кижским  архитектурным  ансамблем, объектом Всемирного наследия ЮНЕСКО, с главным памятником – Преображенской церковью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" name="Picture 6" descr="C:\Users\fadeeva\Desktop\командировка в лулео\для выставки\Kizhi Pogost\The Kizhi Island.JPG"/>
          <p:cNvPicPr/>
          <p:nvPr/>
        </p:nvPicPr>
        <p:blipFill>
          <a:blip r:embed="rId2"/>
          <a:stretch/>
        </p:blipFill>
        <p:spPr>
          <a:xfrm>
            <a:off x="1258920" y="3921120"/>
            <a:ext cx="414180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98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порные понятия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9680" y="1873080"/>
            <a:ext cx="3176640" cy="4764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24000" y="132228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амятники деревянного зодчест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рхитектурный ансамб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осьмери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иру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ла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1258920" y="4033800"/>
            <a:ext cx="414180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Интерактивные материалы: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24000" y="1322280"/>
            <a:ext cx="518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арта острова, выполненная в технике текстиля (размеры 2х 0,5 м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бразцы спилов сосны, осины, березы, береста, мох, пакл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мех,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Методический репертуар занятия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нтерактивная методи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ы: беседа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игры: ролевые, дидактические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ие задания, викторин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" name="Picture 5" descr="C:\Users\arhipova\Desktop\проекты на конкурс ЛУ\85465_80.jpg"/>
          <p:cNvPicPr/>
          <p:nvPr/>
        </p:nvPicPr>
        <p:blipFill>
          <a:blip r:embed="rId1"/>
          <a:stretch/>
        </p:blipFill>
        <p:spPr>
          <a:xfrm>
            <a:off x="4921200" y="1628640"/>
            <a:ext cx="3443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Кижский архитектурный ансамбль – основа   музея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4176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50920" y="11984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дать понятие об ансамбле деревянного зодчества, о памятниках деревянного зодчества, входящих в КА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работа с картой: «установить» памятники, входящие в ансамбль, на карте острова Кижи,  игра «Ансамбль» («Живая картина»), тес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удо-остров Кижи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651640" y="1679400"/>
            <a:ext cx="3313080" cy="4805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24000" y="132228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 эмоционально настроить детей на восприятие памятников деревянного зодчества о.Кижи,  дать представление об острове, о музее-заповеднике «Кижи» и  его коллекция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а с картой остров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видеоролика «300 лет Преображенской церкви на о.Кижи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ариант: стихотворения об острове, колокольный звон и т.д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826920" y="4184640"/>
            <a:ext cx="45738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Светломилостливый Спас Ерусалим»</a:t>
            </a:r>
            <a:endParaRPr b="0" lang="en-US" sz="32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651640" y="1873080"/>
            <a:ext cx="3313080" cy="4418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24000" y="1322280"/>
            <a:ext cx="518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–познакомить детей с уникальным памятником деревянного зодчества – Преображенской церковью(материалы для строительства, инструменты плотника,  особенности конструкции, страницы «жизни» памятника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, реставраци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я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 рассмотреть спилы деревьев и определить название дерева и его функцию при строительстве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черный ящик»: на ощупь определить, какие еще материалы использовали для строительства  храмов (береста, мох, пакля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Загадки о плотницких инструментах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ссмотреть лемех и кованые гвозд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98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Особенности конструкции Преображенского храма</a:t>
            </a:r>
            <a:endParaRPr b="0" lang="en-US" sz="29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24000" y="1322280"/>
            <a:ext cx="5184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ча педагога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: познакомить детей с плотницким ремеслом, раскрыть понятие «безгвоздевая конструкция», раскрыть основные особенности конструкции Преображенской церкви: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тип конструкции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круглая о двадцатистенном окладе».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Особенности храма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ирамидальность, всефасадность (почему?), центричность, многоглавие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Легенды о Преображенской церкв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истема водозащи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нятие о реставрации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Задание: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ворческое задание «Подкова»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(артель мастера Нестора)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«Собери амбар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каз фрагмента фильма </a:t>
            </a: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«Кижи в узоре времен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3112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1:00:57Z</dcterms:created>
  <dc:creator>Павел Шилов</dc:creator>
  <dc:description/>
  <dc:language>en-US</dc:language>
  <cp:lastModifiedBy>Наталья Архипова</cp:lastModifiedBy>
  <dcterms:modified xsi:type="dcterms:W3CDTF">2014-05-14T10:59:24Z</dcterms:modified>
  <cp:revision>103</cp:revision>
  <dc:subject/>
  <dc:title>Презентация PowerPoint</dc:title>
</cp:coreProperties>
</file>