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E85-27F9-4FF0-B0B5-C1E49EDB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E9F-3D55-4783-922D-1E5BE3B2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C37-D257-42B2-A200-4A2E57EB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5C8-861A-4DC4-9FBE-234F2351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292-C696-4DA7-9138-BC945AC3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E4E-44AD-4F8A-A6D2-4145AF8F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B44-CFC0-431A-AF12-DCC30508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812-E531-43B8-97E3-142B1A20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D95-2DF9-4502-B112-DB7D8768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A3F-C996-4F83-B2C9-6761D78B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C06-1527-4217-94DE-645A708B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DE6-E284-491D-B620-4C0F81C8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3650-EF30-4DFC-B201-FE3A79B9C5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vk.com/away.php?to=http%3A%2F%2Fkizhi.karelia.ru%2Fjourney%2F&amp;post=-50943719_364" TargetMode="External"/><Relationship Id="rId3" Type="http://schemas.openxmlformats.org/officeDocument/2006/relationships/hyperlink" Target="https://vk.com/away.php?to=http%3A%2F%2Fkizhi.karelia.ru%2Fjourney%2F&amp;post=-50943719_364" TargetMode="External"/><Relationship Id="rId4" Type="http://schemas.openxmlformats.org/officeDocument/2006/relationships/hyperlink" Target="https://vk.com/away.php?to=http%3A%2F%2Fkizhi.karelia.ru%2Fjourney%2F&amp;post=-50943719_364" TargetMode="External"/><Relationship Id="rId5" Type="http://schemas.openxmlformats.org/officeDocument/2006/relationships/hyperlink" Target="https://vk.com/away.php?to=http%3A%2F%2Fkizhi.karelia.ru%2Fjourney%2F&amp;post=-50943719_364" TargetMode="External"/><Relationship Id="rId6" Type="http://schemas.openxmlformats.org/officeDocument/2006/relationships/hyperlink" Target="https://vk.com/away.php?to=http%3A%2F%2Fkizhi.karelia.ru%2Fjourney%2F&amp;post=-50943719_364" TargetMode="External"/><Relationship Id="rId7" Type="http://schemas.openxmlformats.org/officeDocument/2006/relationships/hyperlink" Target="https://vk.com/away.php?to=http%3A%2F%2Fkizhi.karelia.ru%2Fjourney%2F&amp;post=-50943719_364" TargetMode="Externa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84512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МУЗЕЙНОЕ ЗАНЯТИЕ </a:t>
            </a:r>
            <a:br>
              <a:rPr sz="2400"/>
            </a:b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«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а здравствует Кижский архитектурный ансамбль!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Филатова Елена Владимировна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педагог МОУ «Средняя школа №29»</a:t>
            </a: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208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V 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Республиканский конкурс музейно-образовательных занятий и программ  «НАСЛЕДИЕ – ДЕТЯМ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http://www.museum.ru/imgB.asp?24066"/>
          <p:cNvPicPr/>
          <p:nvPr/>
        </p:nvPicPr>
        <p:blipFill>
          <a:blip r:embed="rId2"/>
          <a:stretch/>
        </p:blipFill>
        <p:spPr>
          <a:xfrm>
            <a:off x="971640" y="3645000"/>
            <a:ext cx="72007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Легенда о мастере Несто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5922720"/>
            <a:ext cx="88930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«Не было, нет и не будет такой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13" descr="http://www.museum.ru/imgB.asp?13986"/>
          <p:cNvPicPr/>
          <p:nvPr/>
        </p:nvPicPr>
        <p:blipFill>
          <a:blip r:embed="rId2"/>
          <a:stretch/>
        </p:blipFill>
        <p:spPr>
          <a:xfrm>
            <a:off x="2771640" y="1341360"/>
            <a:ext cx="33372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Церковь Покрова Пресвятой Богородицы (1694-176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560" y="1628280"/>
            <a:ext cx="554508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alibri"/>
              </a:rPr>
              <a:t>Построена как зимня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alibri"/>
              </a:rPr>
              <a:t>(отапливаемая)церков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996633"/>
                </a:solidFill>
                <a:latin typeface="Calibri"/>
              </a:rPr>
              <a:t>Увенчана 9 главками, покрытыми осиновым лемех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996633"/>
                </a:solidFill>
                <a:latin typeface="Calibri"/>
              </a:rPr>
              <a:t>Богослужения в храме были прерваны в 1937 г., возобновлены в 1994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6" descr="http://kizhi.karelia.ru/gallery/media/thumbs/43/05/7.jpg"/>
          <p:cNvPicPr/>
          <p:nvPr/>
        </p:nvPicPr>
        <p:blipFill>
          <a:blip r:embed="rId2"/>
          <a:srcRect l="0" t="0" r="61645" b="0"/>
          <a:stretch/>
        </p:blipFill>
        <p:spPr>
          <a:xfrm>
            <a:off x="5796000" y="1700280"/>
            <a:ext cx="2573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Покровская церков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0_7212a_d67f367_XL"/>
          <p:cNvPicPr/>
          <p:nvPr/>
        </p:nvPicPr>
        <p:blipFill>
          <a:blip r:embed="rId2"/>
          <a:stretch/>
        </p:blipFill>
        <p:spPr>
          <a:xfrm>
            <a:off x="1619280" y="1341360"/>
            <a:ext cx="61196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Покровская церковь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0_72144_ef684b86_XL"/>
          <p:cNvPicPr/>
          <p:nvPr/>
        </p:nvPicPr>
        <p:blipFill>
          <a:blip r:embed="rId2"/>
          <a:stretch/>
        </p:blipFill>
        <p:spPr>
          <a:xfrm>
            <a:off x="2627280" y="1484280"/>
            <a:ext cx="374796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Покровская церков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99680" y="1643040"/>
            <a:ext cx="846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Сосчитай, скольк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                           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и соедини стрелк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44                             высота церкв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27                     количество помеще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4                      количество купол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9          количество икон в иконоста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619280" y="3141720"/>
            <a:ext cx="576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 flipV="1">
            <a:off x="1619280" y="3068280"/>
            <a:ext cx="252108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 flipV="1">
            <a:off x="1547640" y="3645000"/>
            <a:ext cx="178596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 flipV="1">
            <a:off x="1403280" y="4149360"/>
            <a:ext cx="221472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571840" y="5803920"/>
            <a:ext cx="33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Колокольня Кижского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 погоста (1862 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1500120"/>
            <a:ext cx="83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Традиционная для север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погостов  построй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Чертеж колокольни выполн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архитектор И.И. Копошев в 1874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Перестройка колокольни бы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произведена артелью плотни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под руководством крестьян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С.О. Петрух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996633"/>
                </a:solidFill>
                <a:latin typeface="Calibri"/>
              </a:rPr>
              <a:t>Высота – 30 мет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9" descr="http://mir24.tv/media/images/original/original6798696.jpg"/>
          <p:cNvPicPr/>
          <p:nvPr/>
        </p:nvPicPr>
        <p:blipFill>
          <a:blip r:embed="rId2"/>
          <a:srcRect l="0" t="0" r="56947" b="0"/>
          <a:stretch/>
        </p:blipFill>
        <p:spPr>
          <a:xfrm>
            <a:off x="6084720" y="1628640"/>
            <a:ext cx="273240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Знаешь ли 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000" y="1699920"/>
            <a:ext cx="8675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Для колоколов рядом с церковью строили высокую башню -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 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Колокольный звон, возвещающ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начало церковной службы,  называется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 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    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788000" y="278136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КОЛОКОЛЬ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284720" y="4797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БЛАГОВ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Знаешь ли 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4920" y="1599840"/>
            <a:ext cx="820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По древнему обычаю, любой желающий мог звонить в церковные колокола  только в этот светлый праздник 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А в обычные дни этим занимались специальные церковные служители -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643280" y="5229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ЗВОН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708360" y="3068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ПАС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Ограда Кижского пого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052640"/>
            <a:ext cx="84247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Calibri"/>
              </a:rPr>
              <a:t>Каменное основание ограды сложено в 1880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Calibri"/>
              </a:rPr>
              <a:t>Сруб реконструирован в 1959 г. по проекту архитектора А. В. Ополовни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0_72141_57bb66e3_XL"/>
          <p:cNvPicPr/>
          <p:nvPr/>
        </p:nvPicPr>
        <p:blipFill>
          <a:blip r:embed="rId2"/>
          <a:stretch/>
        </p:blipFill>
        <p:spPr>
          <a:xfrm>
            <a:off x="1692360" y="3500280"/>
            <a:ext cx="51926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Calibri"/>
              </a:rPr>
              <a:t>Как это дела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Calibri"/>
              </a:rPr>
              <a:t>Название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 (обычно существитель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Calibri"/>
              </a:rPr>
              <a:t>Описание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 (два прилагательны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Calibri"/>
              </a:rPr>
              <a:t>Действия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(описание тремя словам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Calibri"/>
              </a:rPr>
              <a:t>Чувство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(фраз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Calibri"/>
              </a:rPr>
              <a:t>Повторение сути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(синоним назва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Путешествие начинает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0_72127_2b1e88fd_XL"/>
          <p:cNvPicPr/>
          <p:nvPr/>
        </p:nvPicPr>
        <p:blipFill>
          <a:blip r:embed="rId2"/>
          <a:stretch/>
        </p:blipFill>
        <p:spPr>
          <a:xfrm>
            <a:off x="971640" y="1268280"/>
            <a:ext cx="71704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Спасибо з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плодотворную работу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Ансамбль Кижского пого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0" descr="http://mkrf.ru/upload/iblock/eb3/eb36d2da00951a12b019fe002958a481.jpg"/>
          <p:cNvPicPr/>
          <p:nvPr/>
        </p:nvPicPr>
        <p:blipFill>
          <a:blip r:embed="rId2"/>
          <a:stretch/>
        </p:blipFill>
        <p:spPr>
          <a:xfrm>
            <a:off x="755640" y="1197000"/>
            <a:ext cx="76327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Кижский архитектурный ансамб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560" y="1700280"/>
            <a:ext cx="88930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Выдающийся памятник рус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деревянного зодч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В составе ансамб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Церковь Преображения Господн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Церковь Покрова Пресвятой Богородиц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Колоколь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5"/>
          <p:cNvSpPr/>
          <p:nvPr/>
        </p:nvSpPr>
        <p:spPr>
          <a:xfrm>
            <a:off x="1973160" y="3517560"/>
            <a:ext cx="25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0"/>
          <p:cNvSpPr/>
          <p:nvPr/>
        </p:nvSpPr>
        <p:spPr>
          <a:xfrm>
            <a:off x="1967760" y="414072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Виртуальный путеводитель по острову Кижи и его памятникам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kizhi.karelia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journey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)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8"/>
          <a:srcRect l="12722" t="15020" r="65090" b="53706"/>
          <a:stretch/>
        </p:blipFill>
        <p:spPr>
          <a:xfrm>
            <a:off x="1643040" y="1428840"/>
            <a:ext cx="5857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Церковь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Преображения Господня (1714 г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599840"/>
            <a:ext cx="529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alibri"/>
              </a:rPr>
              <a:t>Уникальный памятни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alibri"/>
              </a:rPr>
              <a:t>русского деревянн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alibri"/>
              </a:rPr>
              <a:t>зодч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alibri"/>
              </a:rPr>
              <a:t>Построена как летняя (неотапливаемая) церков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alibri"/>
              </a:rPr>
              <a:t>Увенчана 22 главкам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alibri"/>
              </a:rPr>
              <a:t>покрытыми осиновым лемех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alibri"/>
              </a:rPr>
              <a:t>Богослужения проводилис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alibri"/>
              </a:rPr>
              <a:t>до 1937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0_7212f_1b1f8a6_XL"/>
          <p:cNvPicPr/>
          <p:nvPr/>
        </p:nvPicPr>
        <p:blipFill>
          <a:blip r:embed="rId2"/>
          <a:stretch/>
        </p:blipFill>
        <p:spPr>
          <a:xfrm>
            <a:off x="5003640" y="1628640"/>
            <a:ext cx="360540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Преображенская церков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                                     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1714 – 201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                                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С днём рожде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                                  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чудо-памятник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                                        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С 300 - летие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7" descr="http://kizhi.karelia.ru/gallery/media/thumbs/05/a9/12.jpg"/>
          <p:cNvPicPr/>
          <p:nvPr/>
        </p:nvPicPr>
        <p:blipFill>
          <a:blip r:embed="rId2"/>
          <a:stretch/>
        </p:blipFill>
        <p:spPr>
          <a:xfrm>
            <a:off x="826920" y="1341360"/>
            <a:ext cx="3765600" cy="5300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4788000" y="587700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Как бы вы назвали эту фотограф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Церковь Преображения Господ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9152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996633"/>
                </a:solidFill>
                <a:latin typeface="Calibri"/>
              </a:rPr>
              <a:t>Знаешь ли ты, как, посмотрев на церковь, определить стороны свет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Алтарь - святое место церкви - находится на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Высокое парадное</a:t>
            </a: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крыльцо расположено на</a:t>
            </a: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714760" y="3786120"/>
          <a:ext cx="4038480" cy="389160"/>
        </p:xfrm>
        <a:graphic>
          <a:graphicData uri="http://schemas.openxmlformats.org/drawingml/2006/table">
            <a:tbl>
              <a:tblPr/>
              <a:tblGrid>
                <a:gridCol w="549000"/>
                <a:gridCol w="573120"/>
                <a:gridCol w="582840"/>
                <a:gridCol w="588960"/>
                <a:gridCol w="581040"/>
                <a:gridCol w="582480"/>
                <a:gridCol w="581040"/>
              </a:tblGrid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714760" y="5429160"/>
          <a:ext cx="4038480" cy="354240"/>
        </p:xfrm>
        <a:graphic>
          <a:graphicData uri="http://schemas.openxmlformats.org/drawingml/2006/table">
            <a:tbl>
              <a:tblPr/>
              <a:tblGrid>
                <a:gridCol w="625320"/>
                <a:gridCol w="673200"/>
                <a:gridCol w="682560"/>
                <a:gridCol w="692280"/>
                <a:gridCol w="682560"/>
                <a:gridCol w="682560"/>
              </a:tblGrid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80"/>
                          </a:solidFill>
                          <a:latin typeface="Book Antiqu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alibri"/>
              </a:rPr>
              <a:t>Преображенская церков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Сосчитай, сколько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                         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и соедини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стрел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20                     количество куполов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37               количество стен в сруб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22                          высота церк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4"/>
          <p:cNvSpPr/>
          <p:nvPr/>
        </p:nvSpPr>
        <p:spPr>
          <a:xfrm>
            <a:off x="2071800" y="3786120"/>
            <a:ext cx="135720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V="1">
            <a:off x="2071800" y="3642840"/>
            <a:ext cx="1800000" cy="121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2000160" y="4286160"/>
            <a:ext cx="2305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3132000" y="5661000"/>
            <a:ext cx="33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alibri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15:11:10Z</dcterms:created>
  <dc:creator>Samsung P29</dc:creator>
  <dc:description/>
  <dc:language>en-US</dc:language>
  <cp:lastModifiedBy>zaharova</cp:lastModifiedBy>
  <dcterms:modified xsi:type="dcterms:W3CDTF">2014-05-14T08:49:19Z</dcterms:modified>
  <cp:revision>26</cp:revision>
  <dc:subject/>
  <dc:title>Слайд 1</dc:title>
</cp:coreProperties>
</file>