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move the slide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D0AF8-61ED-4429-BD10-17D7FD2035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645B0-1A0E-4BFF-93C0-DA731B5193C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72815-AA9B-4F73-980C-0888E159AA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5FE8D-E432-47FA-98B1-1D28792DA9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0DE58-8BCB-4FF7-AFFE-1757B5F6FC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художники были экспериментаторами в изобразительном искусстве. Давайте познакомимся с н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1B3A0-8D11-4AD9-B892-9A75DBC16C3C}" type="slidenum">
              <a:rPr b="0" lang="ru-RU" sz="1200" spc="-1" strike="noStrike">
                <a:solidFill>
                  <a:srgbClr val="2e22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AC5B3-B199-428F-962E-ADFBC28F0B6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вами картина Клода Моне. Что пытался передать в своей работе художник? Как бы вы её назва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3609-FD31-491E-8D32-A1ACA43E896F}" type="slidenum">
              <a:rPr b="0" lang="ru-RU" sz="1200" spc="-1" strike="noStrike">
                <a:solidFill>
                  <a:srgbClr val="2e22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04BEC-AFEE-4D74-A0F2-505887BAB7E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0F040-377C-4BC8-AC6C-8D6BFE82FA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8D2FB-1F87-4CB4-A336-AB85FD0572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6B3C4-31AF-4E16-AAE4-2F6BFFEEA46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397C0-3F5D-4B89-B299-339BA7F6E7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0E4D-65E3-4E1F-9264-8D412FBCB7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C631-D307-4F2B-A622-5FFF2335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F5A0-AB0B-417F-823A-78A9096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9420-1C38-4021-8DE3-32F71648C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5AE87-4C76-4A1B-AC6D-0C5D0ED415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669D7-D7AC-40D9-837E-47129D14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3CA08-4A88-4B21-B3E6-22FC97DB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D89A0-8F13-4124-BBE0-E44E5AB6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0ECA1-57EA-45F0-BA79-0CB38E03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23E2D-60A4-449E-AB2B-1BAAF9E2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62A24-E8B0-4BD3-B5A9-5D54D1A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9632-3220-4A61-8CE5-09713B7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4E928-662C-459C-B63A-3518D660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D5441-968C-4D8E-BD3D-916BAA3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8BADF-1974-472B-8DF2-21DA955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75D6C-3C40-4215-9281-ECB351E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16530-CD6B-4EEF-B1C6-C4459C11E4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2A5-E830-4174-8A60-63DF474B4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97C8-73B4-4D54-9BE9-853A1293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C3DF-CCCB-4BD2-BE89-72C2DB4F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F064-6590-4917-8F53-751B74DA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1EBB-3B04-4041-ADE8-DF3BD83C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1B39-790C-4239-B091-DDC3063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C31A-20F6-498A-8524-74A97ADA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169B-D2F7-4F87-BD65-0B2B10AF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B418-3540-4121-AC89-5556B5F5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7EF6-4B6B-405B-895A-0F9520CE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B34B-AAA9-4F91-9E4C-3310DC1B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FA3C-6D6D-475D-BAD1-435F888A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7D7F-2B21-4CF5-AC99-92080AB24D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7E386-C79D-4497-8878-EDD519A71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6DA3A-4711-4AF8-8E27-59344B42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0E403-E130-4C86-A2F3-8ACA919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8EEF-2601-4C54-B155-C128E44F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14565-CFB1-4148-903D-00DB3DA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D80C4-C661-4EF3-9240-7B69D812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E5730-B3C9-48F0-B513-F2DD17A2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0D0AB-9786-4BF6-86D7-D822BA3F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FD106-A42A-4EFF-9DC8-99E1F7FF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80427-FD9B-41A0-96AB-305B4F47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DEB39-1D6A-4AE1-A37C-230D5234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BABF4-5BD2-49FE-85B1-536466D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05A20-0221-428A-B898-BE6BDAB3D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B3AAA-2CAE-4F31-9C13-D7847E4769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9EE5-8196-4DB6-87AA-FE9EB382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EDBC8D-27BF-4CCA-9AE5-C65ED416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A41E5-2A2C-4423-9426-ED2A27E4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D77ED-FAE5-4FE5-A922-64C7486A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F0E8A-A5E8-4149-9799-705842FA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08DED-E59E-41A8-8D63-DB1DC4BD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5FD68-D0EB-4B17-8F3D-047E61BE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4D92E-42F8-47F5-B005-DEDEA9CE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273E9-1168-43E3-ACBA-F045195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9EEDB-5C1E-4436-8010-550A623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38D88-BCBD-4925-A926-2ADF454D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36B5-D510-4569-B8D5-4A377388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1191A-8A1F-41A9-957E-FDA5A7D7F4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9942A-5C10-4360-8F61-348402B8A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4728-1C83-44B3-80A6-5CDC8F11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789F-9DFB-436C-B8DC-EF4A359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6A34-8CB6-4490-A18A-C756B928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7103-664E-4591-82BA-F17031B8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75760" y="103320"/>
            <a:ext cx="858852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B9D9-4B18-435D-835A-D020EF12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5F56-0EFF-4CC0-B0A6-7AF896B9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49CC-7E99-466E-A259-3F1F377C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9FAEF-F135-4434-AF99-14AA4F4F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CF53-E248-402F-B883-9687C10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D5D7-3719-42DD-886D-B3518CA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B42A4-6ED5-4255-9566-F27F601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952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3280" y="12949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7576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952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3280" y="3870720"/>
            <a:ext cx="276516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6E1CE-681C-4CFA-964D-55C4B441A6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8707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F50F-B8E0-4884-B64F-1EFD455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5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911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5760" y="3870720"/>
            <a:ext cx="8588520" cy="23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B66D-9ADF-44D4-85E1-BC61CDC9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6391440"/>
            <a:ext cx="213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743280" y="6391440"/>
            <a:ext cx="40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91280" y="6391440"/>
            <a:ext cx="87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2e222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3EA35-EBAA-495E-AA93-A2B1E268038E}" type="slidenum">
              <a:rPr b="0" lang="ru-RU" sz="2400" spc="-1" strike="noStrike">
                <a:solidFill>
                  <a:srgbClr val="2e222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7E2457E-1B18-4E0B-B873-EAEF3869C37F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ED47EAC-1969-46AD-9F82-7A4C00E107C2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29F2398-849F-449F-9950-9E1E48DD13CB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19A2F55-33CA-47B3-80F3-267BCB927D3B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5760" y="103320"/>
            <a:ext cx="85885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5760" y="1294920"/>
            <a:ext cx="85885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276120" y="6428880"/>
            <a:ext cx="213048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4328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7991280" y="6407280"/>
            <a:ext cx="873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61638FE-57C6-41E8-9494-26575B1080B1}" type="slidenum">
              <a:rPr b="1" lang="ru-RU" sz="1600" spc="-1" strike="noStrike">
                <a:solidFill>
                  <a:srgbClr val="48231e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3564000" y="3429000"/>
            <a:ext cx="54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8231e"/>
                </a:solidFill>
                <a:latin typeface="Candara"/>
              </a:rPr>
              <a:t>«Загадки Преображенской церкв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подготовил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Кузнецова Татьяна Николае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учитель изо и технологии МОУ «ФУШ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740040" y="1052640"/>
            <a:ext cx="5119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c5054"/>
                </a:solidFill>
                <a:latin typeface="Candara"/>
                <a:ea typeface="Tunga"/>
              </a:rPr>
              <a:t>КИЖСКИЙ АРХИТЕКТУРНЫЙ АНСАМБ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2"/>
          <p:cNvGrpSpPr/>
          <p:nvPr/>
        </p:nvGrpSpPr>
        <p:grpSpPr>
          <a:xfrm>
            <a:off x="611280" y="476280"/>
            <a:ext cx="7880400" cy="5975280"/>
            <a:chOff x="611280" y="476280"/>
            <a:chExt cx="7880400" cy="5975280"/>
          </a:xfrm>
        </p:grpSpPr>
        <p:pic>
          <p:nvPicPr>
            <p:cNvPr id="303" name="Picture 3" descr=""/>
            <p:cNvPicPr/>
            <p:nvPr/>
          </p:nvPicPr>
          <p:blipFill>
            <a:blip r:embed="rId2"/>
            <a:stretch/>
          </p:blipFill>
          <p:spPr>
            <a:xfrm>
              <a:off x="611280" y="476280"/>
              <a:ext cx="7880400" cy="59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4"/>
            <p:cNvSpPr/>
            <p:nvPr/>
          </p:nvSpPr>
          <p:spPr>
            <a:xfrm>
              <a:off x="611280" y="476280"/>
              <a:ext cx="7880400" cy="59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    </a:t>
            </a: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ель        берёза          сосна          осина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276120" y="1298520"/>
            <a:ext cx="407988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8231e"/>
                </a:solidFill>
                <a:uFillTx/>
                <a:latin typeface="Candara"/>
              </a:rPr>
              <a:t>Опис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лёгкое пластичное дерево, прекрасно поддающееся обработ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 от влаги оно разбухает и поэтому не пропускает во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умелому мастеру несложно придать ей нужную фор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пластины из этого дерева тонко реагируют на освещение, при ярком свете серебрятся и сияют, в пасмурный день имеют матовый, стальной оттенок, на закате приобретают розоватый от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716360" y="1298520"/>
            <a:ext cx="41515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48231e"/>
                </a:solidFill>
                <a:uFillTx/>
                <a:latin typeface="Candara"/>
              </a:rPr>
              <a:t>Описание</a:t>
            </a: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смолистое, мелкослойное дере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- отёсанное  топором лучше сохраняется, чем опиленное; в первом случае на торцах брёвен забиваются поры, влага не проникает внутрь, и дерево как бы консервируется, пропитавшись смолой, распиленное же бревно на торцах «махрится», волокна его разорваны, поры открыты, оно впитывает в себя влагу и потому гниёт быстр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2"/>
          <p:cNvGrpSpPr/>
          <p:nvPr/>
        </p:nvGrpSpPr>
        <p:grpSpPr>
          <a:xfrm>
            <a:off x="1979640" y="128520"/>
            <a:ext cx="4664160" cy="6550200"/>
            <a:chOff x="1979640" y="128520"/>
            <a:chExt cx="4664160" cy="6550200"/>
          </a:xfrm>
        </p:grpSpPr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>
              <a:off x="1979640" y="128520"/>
              <a:ext cx="4664160" cy="655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4"/>
            <p:cNvSpPr/>
            <p:nvPr/>
          </p:nvSpPr>
          <p:spPr>
            <a:xfrm>
              <a:off x="1979640" y="128520"/>
              <a:ext cx="4664160" cy="65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Picture 5" descr=""/>
          <p:cNvPicPr/>
          <p:nvPr/>
        </p:nvPicPr>
        <p:blipFill>
          <a:blip r:embed="rId3"/>
          <a:stretch/>
        </p:blipFill>
        <p:spPr>
          <a:xfrm>
            <a:off x="755640" y="549360"/>
            <a:ext cx="7605720" cy="571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76120" y="228600"/>
            <a:ext cx="85917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Кижский архитектурный ансамб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619280" y="559440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Церковь Преображения Господня (1714 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Церковь Покрова пресвятой Богородицы </a:t>
            </a:r>
            <a:r>
              <a:rPr b="0" lang="en-US" sz="1800" spc="-1" strike="noStrike">
                <a:solidFill>
                  <a:srgbClr val="2e2224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1694-1764 гг.</a:t>
            </a:r>
            <a:r>
              <a:rPr b="0" lang="en-US" sz="1800" spc="-1" strike="noStrike">
                <a:solidFill>
                  <a:srgbClr val="2e222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Колокольня (1862 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e2224"/>
                </a:solidFill>
                <a:latin typeface="Arial"/>
              </a:rPr>
              <a:t>Бревенчатая ограда на каменном основании (1800 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1593720" y="965160"/>
            <a:ext cx="5823000" cy="4657680"/>
            <a:chOff x="1593720" y="965160"/>
            <a:chExt cx="5823000" cy="4657680"/>
          </a:xfrm>
        </p:grpSpPr>
        <p:pic>
          <p:nvPicPr>
            <p:cNvPr id="272" name="Picture 4" descr=""/>
            <p:cNvPicPr/>
            <p:nvPr/>
          </p:nvPicPr>
          <p:blipFill>
            <a:blip r:embed="rId2"/>
            <a:stretch/>
          </p:blipFill>
          <p:spPr>
            <a:xfrm>
              <a:off x="1593720" y="965160"/>
              <a:ext cx="582300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5"/>
            <p:cNvSpPr/>
            <p:nvPr/>
          </p:nvSpPr>
          <p:spPr>
            <a:xfrm>
              <a:off x="1593720" y="965160"/>
              <a:ext cx="5823000" cy="46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 Box 6"/>
          <p:cNvSpPr/>
          <p:nvPr/>
        </p:nvSpPr>
        <p:spPr>
          <a:xfrm>
            <a:off x="4616280" y="1298520"/>
            <a:ext cx="4251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684360" y="333360"/>
            <a:ext cx="7870680" cy="5902200"/>
            <a:chOff x="684360" y="333360"/>
            <a:chExt cx="7870680" cy="5902200"/>
          </a:xfrm>
        </p:grpSpPr>
        <p:pic>
          <p:nvPicPr>
            <p:cNvPr id="277" name="Picture 3" descr=""/>
            <p:cNvPicPr/>
            <p:nvPr/>
          </p:nvPicPr>
          <p:blipFill>
            <a:blip r:embed="rId2"/>
            <a:stretch/>
          </p:blipFill>
          <p:spPr>
            <a:xfrm>
              <a:off x="684360" y="333360"/>
              <a:ext cx="7870680" cy="59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4"/>
            <p:cNvSpPr/>
            <p:nvPr/>
          </p:nvSpPr>
          <p:spPr>
            <a:xfrm>
              <a:off x="684360" y="333360"/>
              <a:ext cx="7870680" cy="59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395280" y="1700280"/>
            <a:ext cx="4608360" cy="3456000"/>
            <a:chOff x="395280" y="1700280"/>
            <a:chExt cx="4608360" cy="3456000"/>
          </a:xfrm>
        </p:grpSpPr>
        <p:pic>
          <p:nvPicPr>
            <p:cNvPr id="281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1700280"/>
              <a:ext cx="460836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4"/>
            <p:cNvSpPr/>
            <p:nvPr/>
          </p:nvSpPr>
          <p:spPr>
            <a:xfrm>
              <a:off x="395280" y="1700280"/>
              <a:ext cx="460836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5"/>
          <p:cNvGrpSpPr/>
          <p:nvPr/>
        </p:nvGrpSpPr>
        <p:grpSpPr>
          <a:xfrm>
            <a:off x="5322960" y="981000"/>
            <a:ext cx="3394080" cy="5127840"/>
            <a:chOff x="5322960" y="981000"/>
            <a:chExt cx="3394080" cy="5127840"/>
          </a:xfrm>
        </p:grpSpPr>
        <p:pic>
          <p:nvPicPr>
            <p:cNvPr id="284" name="Picture 6" descr=""/>
            <p:cNvPicPr/>
            <p:nvPr/>
          </p:nvPicPr>
          <p:blipFill>
            <a:blip r:embed="rId3"/>
            <a:srcRect l="6435" t="0" r="5308" b="0"/>
            <a:stretch/>
          </p:blipFill>
          <p:spPr>
            <a:xfrm>
              <a:off x="5322960" y="981000"/>
              <a:ext cx="3394080" cy="51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7"/>
            <p:cNvSpPr/>
            <p:nvPr/>
          </p:nvSpPr>
          <p:spPr>
            <a:xfrm>
              <a:off x="5322960" y="981000"/>
              <a:ext cx="3394080" cy="51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7711920" cy="61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76120" y="228600"/>
            <a:ext cx="85917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Реставр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341280" y="1197000"/>
            <a:ext cx="3971880" cy="5295960"/>
            <a:chOff x="341280" y="1197000"/>
            <a:chExt cx="3971880" cy="5295960"/>
          </a:xfrm>
        </p:grpSpPr>
        <p:pic>
          <p:nvPicPr>
            <p:cNvPr id="289" name="Picture 3" descr=""/>
            <p:cNvPicPr/>
            <p:nvPr/>
          </p:nvPicPr>
          <p:blipFill>
            <a:blip r:embed="rId2"/>
            <a:stretch/>
          </p:blipFill>
          <p:spPr>
            <a:xfrm>
              <a:off x="341280" y="1197000"/>
              <a:ext cx="3971880" cy="529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"/>
            <p:cNvSpPr/>
            <p:nvPr/>
          </p:nvSpPr>
          <p:spPr>
            <a:xfrm>
              <a:off x="341280" y="1197000"/>
              <a:ext cx="3971880" cy="52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5"/>
          <p:cNvGrpSpPr/>
          <p:nvPr/>
        </p:nvGrpSpPr>
        <p:grpSpPr>
          <a:xfrm>
            <a:off x="4546440" y="2349360"/>
            <a:ext cx="4346640" cy="3257640"/>
            <a:chOff x="4546440" y="2349360"/>
            <a:chExt cx="4346640" cy="3257640"/>
          </a:xfrm>
        </p:grpSpPr>
        <p:pic>
          <p:nvPicPr>
            <p:cNvPr id="292" name="Picture 6" descr=""/>
            <p:cNvPicPr/>
            <p:nvPr/>
          </p:nvPicPr>
          <p:blipFill>
            <a:blip r:embed="rId3"/>
            <a:stretch/>
          </p:blipFill>
          <p:spPr>
            <a:xfrm>
              <a:off x="4546440" y="2349360"/>
              <a:ext cx="434664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7"/>
            <p:cNvSpPr/>
            <p:nvPr/>
          </p:nvSpPr>
          <p:spPr>
            <a:xfrm>
              <a:off x="4546440" y="2349360"/>
              <a:ext cx="434664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276120" y="228600"/>
            <a:ext cx="859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  <a:ea typeface="Tunga"/>
              </a:rPr>
              <a:t>Плотницкий цент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"/>
          <p:cNvGrpSpPr/>
          <p:nvPr/>
        </p:nvGrpSpPr>
        <p:grpSpPr>
          <a:xfrm>
            <a:off x="179280" y="1341360"/>
            <a:ext cx="4249800" cy="3187800"/>
            <a:chOff x="179280" y="1341360"/>
            <a:chExt cx="4249800" cy="3187800"/>
          </a:xfrm>
        </p:grpSpPr>
        <p:pic>
          <p:nvPicPr>
            <p:cNvPr id="296" name="Picture 3" descr="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24980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"/>
            <p:cNvSpPr/>
            <p:nvPr/>
          </p:nvSpPr>
          <p:spPr>
            <a:xfrm>
              <a:off x="179280" y="1341360"/>
              <a:ext cx="42498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5"/>
          <p:cNvGrpSpPr/>
          <p:nvPr/>
        </p:nvGrpSpPr>
        <p:grpSpPr>
          <a:xfrm>
            <a:off x="4643280" y="3068640"/>
            <a:ext cx="4249800" cy="3187800"/>
            <a:chOff x="4643280" y="3068640"/>
            <a:chExt cx="4249800" cy="3187800"/>
          </a:xfrm>
        </p:grpSpPr>
        <p:pic>
          <p:nvPicPr>
            <p:cNvPr id="299" name="Picture 6" descr=""/>
            <p:cNvPicPr/>
            <p:nvPr/>
          </p:nvPicPr>
          <p:blipFill>
            <a:blip r:embed="rId3"/>
            <a:stretch/>
          </p:blipFill>
          <p:spPr>
            <a:xfrm>
              <a:off x="4643280" y="3068640"/>
              <a:ext cx="424980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7"/>
            <p:cNvSpPr/>
            <p:nvPr/>
          </p:nvSpPr>
          <p:spPr>
            <a:xfrm>
              <a:off x="4643280" y="3068640"/>
              <a:ext cx="42498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8:49:06Z</dcterms:created>
  <dc:creator>admin</dc:creator>
  <dc:description/>
  <cp:keywords/>
  <dc:language>en-US</dc:language>
  <cp:lastModifiedBy>Светлана Демидова</cp:lastModifiedBy>
  <dcterms:modified xsi:type="dcterms:W3CDTF">2014-05-15T12:54:46Z</dcterms:modified>
  <cp:revision>41</cp:revision>
  <dc:subject/>
  <dc:title>Импрессионизм</dc:title>
</cp:coreProperties>
</file>